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B26D-CD39-4BF9-BE61-AAA137FCD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FF25-347E-42EF-B00E-8C5CDC57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5FE7-CB7E-4FE6-9011-51706AB1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AC48-9FB4-49CD-81CE-896A1E8AB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7844-B15E-4958-9809-AE530CF4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7308-7560-42EE-8D87-23CB2CF8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A45B-FAD2-4077-A6C3-2FC78841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1C46-6C1A-40E2-8CEA-B2575F3E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36A5-394E-4EB3-83AC-96455A2A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050F-4609-4933-B96F-FD219622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B95A-768C-4CAF-861A-36D25852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1124-CFBC-4F81-B104-F947156A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F86B-7A75-42DF-8129-A7C7C9BA41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447920" y="1900080"/>
            <a:ext cx="5715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Организационно-методическое сопровождение реал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Рабочей программы   воспитания образовательной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407880" y="63244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Октябрьский 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066080" y="262080"/>
            <a:ext cx="124452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5" name="Прямоугольник 4"/>
          <p:cNvSpPr/>
          <p:nvPr/>
        </p:nvSpPr>
        <p:spPr>
          <a:xfrm>
            <a:off x="5207760" y="5605560"/>
            <a:ext cx="371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Конькова И.В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дирек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МБОУ «Октябрьская СОШ 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s://img2.freepng.ru/20171202/434/team-picture-5a2264f1a924e7.0452620615122035056928.jpg"/>
          <p:cNvPicPr/>
          <p:nvPr/>
        </p:nvPicPr>
        <p:blipFill>
          <a:blip r:embed="rId5"/>
          <a:srcRect l="15969" t="0" r="18001" b="8661"/>
          <a:stretch/>
        </p:blipFill>
        <p:spPr>
          <a:xfrm>
            <a:off x="6507000" y="2514600"/>
            <a:ext cx="2138400" cy="21700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8"/>
          <p:cNvSpPr/>
          <p:nvPr/>
        </p:nvSpPr>
        <p:spPr>
          <a:xfrm>
            <a:off x="274680" y="1087560"/>
            <a:ext cx="580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Генри Форд: «Собраться вместе - есть начало. Держаться вместе - есть прогрес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Работать вместе - есть успех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83F3-92F0-45D9-98BB-EB8F4D98523D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34880" y="2133720"/>
            <a:ext cx="607212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1.Организационно-координационная помощ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несение изменений в организационную структуру методического сопрово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едметные ШМО, проблемные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змен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рабочие группы по реализации модулей, отдельные кураторы моду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в состав групп входят педагоги, узкие специалисты, ученики, родители, привлекаемые соц.партн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274680" y="515880"/>
            <a:ext cx="76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опровождение = взаимодействие +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870680" y="2286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Объект 2"/>
          <p:cNvSpPr/>
          <p:nvPr/>
        </p:nvSpPr>
        <p:spPr>
          <a:xfrm>
            <a:off x="198360" y="865080"/>
            <a:ext cx="8305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Классное руководство»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 МО классных руководителей и зам.директора по В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Школьный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рок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- руководители предметных Ш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Работа с родителями» и «Линия жизни(система профилактики)» -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зкие специалисты, родители, отдельные педаг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Самоуправление» и «Школьные медиа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– зам.директора по ВР, педагог-организатор, ученики-активис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«Профориентация» – отдельный кур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6" descr=""/>
          <p:cNvPicPr/>
          <p:nvPr/>
        </p:nvPicPr>
        <p:blipFill>
          <a:blip r:embed="rId3"/>
          <a:stretch/>
        </p:blipFill>
        <p:spPr>
          <a:xfrm>
            <a:off x="6477120" y="4267080"/>
            <a:ext cx="2216160" cy="2617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8"/>
          <p:cNvSpPr/>
          <p:nvPr/>
        </p:nvSpPr>
        <p:spPr>
          <a:xfrm>
            <a:off x="6510240" y="485316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Функционал группы описан в Программе, направления работы и мероприятия – в КТ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BCA1-C1D8-468A-BA86-AAC6A0F497A7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533520" y="228600"/>
            <a:ext cx="53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Примерный состав груп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304920" y="4829040"/>
            <a:ext cx="662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т четкого алгоритма действий, готового чек-листа работы группы по реализации мод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информационное сопрово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67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4E94-CF2F-4BF4-80BF-0F836897F758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04920" y="609480"/>
            <a:ext cx="607212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2.Информационно-методическое  сопровождение и Обучающ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бор, обработка, накопление и использование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еминары, пед.советы, консуль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спользовать чащ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практические совещания, делов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создание банка и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анализ и трансформация имеющихся нарабо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5"/>
          <a:srcRect l="8062" t="19342" r="65126" b="8626"/>
          <a:stretch/>
        </p:blipFill>
        <p:spPr>
          <a:xfrm>
            <a:off x="6767640" y="2638440"/>
            <a:ext cx="1533240" cy="23144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"/>
          <p:cNvPicPr/>
          <p:nvPr/>
        </p:nvPicPr>
        <p:blipFill>
          <a:blip r:embed="rId6"/>
          <a:stretch/>
        </p:blipFill>
        <p:spPr>
          <a:xfrm>
            <a:off x="349200" y="448452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7" descr=""/>
          <p:cNvPicPr/>
          <p:nvPr/>
        </p:nvPicPr>
        <p:blipFill>
          <a:blip r:embed="rId7"/>
          <a:srcRect l="5441" t="17594" r="5139" b="2692"/>
          <a:stretch/>
        </p:blipFill>
        <p:spPr>
          <a:xfrm>
            <a:off x="6005520" y="4484520"/>
            <a:ext cx="2867040" cy="19116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1" descr=""/>
          <p:cNvPicPr/>
          <p:nvPr/>
        </p:nvPicPr>
        <p:blipFill>
          <a:blip r:embed="rId8"/>
          <a:srcRect l="12147" t="0" r="18098" b="32230"/>
          <a:stretch/>
        </p:blipFill>
        <p:spPr>
          <a:xfrm>
            <a:off x="3124080" y="4484520"/>
            <a:ext cx="26622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Рисунок 9" descr=""/>
          <p:cNvPicPr/>
          <p:nvPr/>
        </p:nvPicPr>
        <p:blipFill>
          <a:blip r:embed="rId3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76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6DB9-7437-4C96-B0C0-38D314B1F517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203040" y="1176480"/>
            <a:ext cx="6274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3. Психологическ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еализация Программы – совместная деятельность всего коллектив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ерегрузка дополнительной деятельностью            выгорание, апа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оддержка, взаимопомощь           усп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Директор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– основной держатель курса Программы (скорая психологическая, мотивационная, координационная, контролирующая, аналитическая помощ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171360" y="3571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мотив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8"/>
          <p:cNvSpPr/>
          <p:nvPr/>
        </p:nvSpPr>
        <p:spPr>
          <a:xfrm>
            <a:off x="6553080" y="278460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Нельзя возлагать всю работу по реализации на заместителя директора по ВР и единичных педагог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2"/>
          <p:cNvCxnSpPr/>
          <p:nvPr/>
        </p:nvCxnSpPr>
        <p:spPr>
          <a:xfrm>
            <a:off x="2590920" y="3200040"/>
            <a:ext cx="76248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  <p:cxnSp>
        <p:nvCxnSpPr>
          <p:cNvPr id="81" name="Прямая со стрелкой 19"/>
          <p:cNvCxnSpPr/>
          <p:nvPr/>
        </p:nvCxnSpPr>
        <p:spPr>
          <a:xfrm>
            <a:off x="4289040" y="3951000"/>
            <a:ext cx="76284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DB0F-8142-45AE-A23B-971540F8C786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81160" y="414360"/>
            <a:ext cx="8862840" cy="62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4. Проектировочн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Оформление необходимых 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римерная документа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тратегические документы (Внесение изменений в образовательную программу организации, Программу развития образовательной организации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ограммы и Положения отдельных модулей и технологии их реал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етодические документы, обеспечивающие реализацию Программы, ее виды деятельности (планы, технологические карты, формы отчетов,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Технологии осуществления процедур аналитической деятельности (диагностический инструментар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аиболее продуктивные методы и приемы обучения (накопительный банк разработок, презентаций, сценариев мероприятий по различным модуля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8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9643-06F9-4C1E-84FF-82887BA66542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47680" y="1673280"/>
            <a:ext cx="8862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состояние организуемой в школе совместной деятельности детей и взросл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никальный инструментарий (разработки школы относительно анализируемых модулей и особенностей Програм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 оценивания результатов воспитания, социализации и саморазвития 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???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Нужны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единые критерии оценки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оспитательной работы для всех образовательных организаций (по типу создания единой примерной программы), чтобы процедура анализа также была единой и прозрачной, а также это может предотвратить искажение данных об обучающихся при переходе из одной образовательной организации в другу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8"/>
          <p:cNvSpPr/>
          <p:nvPr/>
        </p:nvSpPr>
        <p:spPr>
          <a:xfrm>
            <a:off x="171360" y="26676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азработка аналитического диагностического инструмент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AFFC-F8D1-4518-A5B7-C172D862A72D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0"/>
          <p:cNvSpPr/>
          <p:nvPr/>
        </p:nvSpPr>
        <p:spPr>
          <a:xfrm>
            <a:off x="1676520" y="1617840"/>
            <a:ext cx="42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Arial"/>
              </a:rPr>
              <a:t>УСПЕШ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1371600" y="1042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УВ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16" descr=""/>
          <p:cNvPicPr/>
          <p:nvPr/>
        </p:nvPicPr>
        <p:blipFill>
          <a:blip r:embed="rId2"/>
          <a:stretch/>
        </p:blipFill>
        <p:spPr>
          <a:xfrm>
            <a:off x="6946920" y="2427120"/>
            <a:ext cx="1133280" cy="9414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2" descr="C:\Users\Int\Desktop\ФОТО 17-18 год\фотографии школы 16-17г\Фотографии 2016-2017 уч.год\старшее звено\День матери\PB240059.JPG"/>
          <p:cNvPicPr/>
          <p:nvPr/>
        </p:nvPicPr>
        <p:blipFill>
          <a:blip r:embed="rId3"/>
          <a:srcRect l="0" t="27611" r="0" b="0"/>
          <a:stretch/>
        </p:blipFill>
        <p:spPr>
          <a:xfrm rot="21141600">
            <a:off x="4635360" y="314280"/>
            <a:ext cx="2351160" cy="1349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28600" y="6245280"/>
            <a:ext cx="43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Вместе – мы сил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4"/>
          <a:srcRect l="25921" t="0" r="23469" b="0"/>
          <a:stretch/>
        </p:blipFill>
        <p:spPr>
          <a:xfrm>
            <a:off x="7026120" y="3240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0" name="TextBox 9"/>
          <p:cNvSpPr/>
          <p:nvPr/>
        </p:nvSpPr>
        <p:spPr>
          <a:xfrm>
            <a:off x="457200" y="343080"/>
            <a:ext cx="52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  <a:ea typeface="Arial"/>
              </a:rPr>
              <a:t>СОТРУДНИЧ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Users\fedor\OneDrive\Документы\Ирина_с августа 2019\фото_школа\районны правовой турнир.jpg"/>
          <p:cNvPicPr/>
          <p:nvPr/>
        </p:nvPicPr>
        <p:blipFill>
          <a:blip r:embed="rId5"/>
          <a:srcRect l="0" t="0" r="12524" b="0"/>
          <a:stretch/>
        </p:blipFill>
        <p:spPr>
          <a:xfrm>
            <a:off x="423720" y="4538520"/>
            <a:ext cx="248760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C:\Users\fedor\OneDrive\Документы\Ирина_с августа 2019\фото_школа\Краевой форум Новое поколение.jpg"/>
          <p:cNvPicPr/>
          <p:nvPr/>
        </p:nvPicPr>
        <p:blipFill>
          <a:blip r:embed="rId6"/>
          <a:srcRect l="17231" t="0" r="9873" b="0"/>
          <a:stretch/>
        </p:blipFill>
        <p:spPr>
          <a:xfrm rot="382800">
            <a:off x="5934240" y="2700000"/>
            <a:ext cx="2852640" cy="23716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8"/>
          <p:cNvSpPr/>
          <p:nvPr/>
        </p:nvSpPr>
        <p:spPr>
          <a:xfrm rot="5400000">
            <a:off x="5487840" y="3407400"/>
            <a:ext cx="58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ПЕРСПЕКТИВ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11" descr="C:\Users\Int\Desktop\ФОТО 17-18 год\Фото 01.12\PB300065.JPG"/>
          <p:cNvPicPr/>
          <p:nvPr/>
        </p:nvPicPr>
        <p:blipFill>
          <a:blip r:embed="rId7"/>
          <a:stretch/>
        </p:blipFill>
        <p:spPr>
          <a:xfrm>
            <a:off x="5897520" y="5086440"/>
            <a:ext cx="2336760" cy="16207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"/>
          <p:cNvPicPr/>
          <p:nvPr/>
        </p:nvPicPr>
        <p:blipFill>
          <a:blip r:embed="rId8"/>
          <a:stretch/>
        </p:blipFill>
        <p:spPr>
          <a:xfrm>
            <a:off x="582480" y="2465280"/>
            <a:ext cx="2297160" cy="1719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4" descr=""/>
          <p:cNvPicPr/>
          <p:nvPr/>
        </p:nvPicPr>
        <p:blipFill>
          <a:blip r:embed="rId9"/>
          <a:srcRect l="0" t="5262" r="0" b="8069"/>
          <a:stretch/>
        </p:blipFill>
        <p:spPr>
          <a:xfrm>
            <a:off x="2489040" y="4035600"/>
            <a:ext cx="3759480" cy="22111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1600200" y="274320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Программа воспит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МБОУ «Октябрьская СОШ №2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5"/>
          <p:cNvSpPr/>
          <p:nvPr/>
        </p:nvSpPr>
        <p:spPr>
          <a:xfrm>
            <a:off x="1219320" y="2666880"/>
            <a:ext cx="6629400" cy="121932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1986120" y="2158920"/>
            <a:ext cx="37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"/>
                <a:ea typeface="Arial"/>
              </a:rPr>
              <a:t>УНИК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 rot="16200000">
            <a:off x="-1515600" y="2504880"/>
            <a:ext cx="419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  <a:ea typeface="Arial"/>
              </a:rPr>
              <a:t>ТВОРЧ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23T15:04:49Z</dcterms:created>
  <dc:creator>Федор KoFSar</dc:creator>
  <dc:description/>
  <dc:language>en-US</dc:language>
  <cp:lastModifiedBy>1</cp:lastModifiedBy>
  <dcterms:modified xsi:type="dcterms:W3CDTF">2021-09-29T07:13:07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